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C51-4797-4048-B5F5-C959832F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FCA-1B89-4551-A456-FDFF6BB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48B-88A7-4FDB-BC4B-5D074EC9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234-3B4B-47BB-95F5-DA34814F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FE8-B177-4FF3-9CB7-B00D2684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A802-3BE7-4D31-9314-AD8C608D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42F-87E9-4FAA-82C9-C89A3C5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C570-0813-4274-81FA-60FEF70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0D9-6F9E-4D24-8F88-24019E7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CBF5-6517-4085-9402-AC722C8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14A4-C4DF-4FB2-B1F7-E38BE43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3D4-3564-49BE-9331-76B04689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1C98-1E66-4714-B343-1AE34CB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FE24-98BD-4918-8B72-862B623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B4ED-F072-4202-9569-9CD48F1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D054-A8E7-4C40-BEBB-9B31971B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19B-0EDE-43F4-B134-E8712CB1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BA1-7FE1-41ED-92D3-98E3E90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417-45C6-4B6F-9951-1C0674CB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682-F209-4DFD-86E0-5236220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8EA-B161-47E7-80AF-553AF59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C9-2325-4724-8F29-C54C5C2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43E-7EC1-4961-A9CA-FCC8E36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DCA-D4CA-4233-8B9D-B11DE746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B8D-A7BA-49BB-BAD0-A7C80CFBC7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3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6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13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13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16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19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230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231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262" name="Rectangle 134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35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6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37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38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39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40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41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42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44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45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46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47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48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49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50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51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52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3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54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55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56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57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58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59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60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61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2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63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293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9A99-2754-4F9F-9BC8-82493A53FA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ycle.wikispaces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inyurl.com/6d2hfko" TargetMode="External"/><Relationship Id="rId2" Type="http://schemas.openxmlformats.org/officeDocument/2006/relationships/hyperlink" Target="http://tinyurl.com/6d2hfko" TargetMode="External"/><Relationship Id="rId3" Type="http://schemas.openxmlformats.org/officeDocument/2006/relationships/hyperlink" Target="http://getreal.wikispaces.com/Book+Trailers" TargetMode="External"/><Relationship Id="rId4" Type="http://schemas.openxmlformats.org/officeDocument/2006/relationships/hyperlink" Target="http://getreal.wikispaces.com/Book+Trailers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19200" y="1905120"/>
            <a:ext cx="78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taycle.wikispaces.co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0" y="838080"/>
            <a:ext cx="9193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nowled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7. List new words that you learned reading this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down their dictionary pronunciation and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. When did the story take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.Where did the story take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. What is the title, author, publisher, illustrator, gen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1. List other books the author has writ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04920" y="15238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ays of Publishing Book Trail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Publish them to a wiki (wikispac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Burn them to a DV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Put them on a central compu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0" y="25909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ints to consi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 with a “hook” for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ve a time minimum and max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 the mood of the book by the reflection of your 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t text before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457200" y="2743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o persuade your listeners to read your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with a cliff h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n the book cover and use it in the book trailer so that students can easily find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loom’s taxonomy Book Review Questions: http://theliterarylink.com/bloom_questions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eric Literatur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ttp://tinyurl.com/bookreport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abriola"/>
              </a:rPr>
              <a:t>A book trailer is a movie trailer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Gabriola"/>
              </a:rPr>
              <a:t>book review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Movie Maker      *Blabberiz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hoto Story         *Goanimat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Glogster             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J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rezi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Flipsh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*PowerPoint         *Animat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99"/>
          <p:cNvSpPr/>
          <p:nvPr/>
        </p:nvSpPr>
        <p:spPr>
          <a:xfrm>
            <a:off x="0" y="2514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briola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Gabri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1"/>
              </a:rPr>
              <a:t>http:/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2"/>
              </a:rPr>
              <a:t>tinyurl.com/6d2hf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Kids.yahoo.com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3"/>
              </a:rPr>
              <a:t>http://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Gabriola"/>
                <a:hlinkClick r:id="rId4"/>
              </a:rPr>
              <a:t>getreal.wikispaces.com/Book+Trai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abriola"/>
              </a:rPr>
              <a:t>Book Trailers for R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briola"/>
              </a:rPr>
              <a:t>http://www.booktrailersforreader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-329400" y="1219320"/>
            <a:ext cx="1005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read a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then answer a list of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Students use a storyboard to organiz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ir book trail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hey then create a movie trail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Who do you think the author intended to read this book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What was the author’s purpose in writing the book? What was 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s the title a good one or a poor one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id you like the way the story ended? Without explaining the ending, expand on why or why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Which character in the book could you most identify with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. What did you think was the most interesting part of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. Was the main character good or bad? Support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. Pick your favorite quote of the book. Explain what the quote mean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0" y="91440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. Did this book remind you of anything that has happened to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. Did this book give you any new ideas about yours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1.What lessons did you learn from this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22860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REHEN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2. What was the problem in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3. Did anyone in the book do something you did not 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4. Tell in your own words the beginn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5. Draw a new book cover that represents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. Make a map showing the sett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45:45Z</dcterms:created>
  <dc:creator>Ellen Finkelstein</dc:creator>
  <dc:description/>
  <dc:language>en-US</dc:language>
  <cp:lastModifiedBy>staycle</cp:lastModifiedBy>
  <dcterms:modified xsi:type="dcterms:W3CDTF">2011-07-05T14:26:50Z</dcterms:modified>
  <cp:revision>37</cp:revision>
  <dc:subject/>
  <dc:title>The Library</dc:title>
</cp:coreProperties>
</file>